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3E0-2532-4917-938B-DD3B4E1C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B71-B487-44E5-A246-B001F2A1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BA3-B63C-49B9-BCE6-3EDD659A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8A3-6D06-4BF5-B9AF-5396CA76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4FD-AE05-4587-ABA8-9A4F7D2C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136-0717-459F-9073-13AED54F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221-7466-4C2D-987A-70BEA12E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3DB-0911-48C9-942A-B23906FC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DAE-7342-46E3-AB74-D731932C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9A1-3B71-4A91-BD36-CBBC1C47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509-4EAC-4A17-B78C-D53D7671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3E6-DD2F-41A0-BD75-58E3B776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0E0A-DB4D-4772-B8A9-EC02DDB839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Participation in IHO Regis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resentation to PAP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3 Ma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mon Maritime Data Structure is a top-level requirement for e-navig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HO has established a GI Registry, governed by S-100 &amp;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MO NAV 57 agreed on IHO Registry as baseline for the collection, exchange, and distribution of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Council 52 approved registration of IALA at IHO as a Submitting Organization &amp; domain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operational procedures in Guideline conform to IHO standard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IHO Reg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197000" y="1357200"/>
            <a:ext cx="65898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Process in IA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S-100 flowchart"/>
          <p:cNvPicPr/>
          <p:nvPr/>
        </p:nvPicPr>
        <p:blipFill>
          <a:blip r:embed="rId1"/>
          <a:stretch/>
        </p:blipFill>
        <p:spPr>
          <a:xfrm>
            <a:off x="1714680" y="1285920"/>
            <a:ext cx="5643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Arial"/>
              </a:rPr>
              <a:t>IALA Organizational Cha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cintosh HD:Users:Mike:Documents:A_Work:IALA:Committees:e-NAV Committee:e-NAV11 Mar12:Report inputs:IALA Org chart.jpg"/>
          <p:cNvPicPr/>
          <p:nvPr/>
        </p:nvPicPr>
        <p:blipFill>
          <a:blip r:embed="rId1"/>
          <a:stretch/>
        </p:blipFill>
        <p:spPr>
          <a:xfrm>
            <a:off x="777960" y="1000080"/>
            <a:ext cx="7588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ap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elds: AtoNs, VTS, AIS, Risk Analysis, WWR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VEF – Technical WG in VTS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oN Information – e-NAV lead, ANM &amp; EEP provide input (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S – applications to be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sk Analysis – IWR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RN – applications to be identif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HO Registry is the baseline for CM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-100 gives a framework for data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accommodate IALA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gnificant impact on IALA,  but also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7:06:38Z</dcterms:created>
  <dc:creator>Nick Ward</dc:creator>
  <dc:description/>
  <dc:language>en-US</dc:language>
  <cp:lastModifiedBy>Nick Ward</cp:lastModifiedBy>
  <dcterms:modified xsi:type="dcterms:W3CDTF">2012-05-03T05:31:05Z</dcterms:modified>
  <cp:revision>5</cp:revision>
  <dc:subject/>
  <dc:title>IALA Participation in IHO Registry</dc:title>
</cp:coreProperties>
</file>